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EA6D-45E2-44A0-B0B1-C81F0CDB3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731-AB90-4A7F-8A93-07B76D19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J=IB, F= Imm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C31-4402-4E9F-AC08-C3D2E1DD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4D2-A2AD-4CF2-8C65-ECAFE39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EC1-5420-451A-86C3-A35F5826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12F-DE9A-431F-9F2B-0A93697B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5D7-B8C5-4E7E-8EB1-AE60D200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4EF7-1BA9-4FBD-A99D-98EB9AD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5CC-5524-49A6-91EF-566B2780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A1D8-867B-4B54-8213-A2537A3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1B3-9C54-4F71-A72D-AEA6F38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83E2-D763-4054-B12C-2779A31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20A-A1C4-43F3-8A84-CFA30E8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3BC-D35E-47DA-8544-7FE10A9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EDD-0B3D-4EFE-8D30-3DD9719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A63E-E2A9-462E-9982-740AB18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F41B-498D-4A13-88E3-D67308CF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565-F6D7-46B1-B298-8EE0B46F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FFF-34C7-430A-9734-51152C54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79D-11F9-46FD-B40F-133D10C2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2BA-7642-4102-906E-21C5705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F63-CAF5-4B61-AB2B-CBE2519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8D3-43CB-4894-80FC-4B28BA6F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0EC-B97A-458C-A11F-610FB14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09F-91BF-44AB-99D2-98B08AC0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1B2-F7E2-4EF3-9B1E-C95ECDD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67C9-7A83-49C4-8E6E-C37DB3D2BD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D981-8BBF-450F-A613-E9C4318D6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(IB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BSc, BCom, B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4U and specific program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1638360" y="228600"/>
          <a:ext cx="6075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28600"/>
                    <a:ext cx="6075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B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ust take 6 IB cour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1: Language and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2: Language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3: Individuals and Socie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4: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5: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6: Arts or El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inimum of three at the HL (may be up to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phant in the 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am thinking of leaving IB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all avenues available for you to find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the best fit for your academic and personal ne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 openly with your parents and Guidance about your conc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must take the Theory of Knowledge course (HZT4UE) (Grade 11-IB1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C.A.S. requirement (Creative/Active/Servic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an Extended Essay and TOK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L or S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programs are taught at the Higher Level (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 can be written at the Standard Level (SL) – Maximum 2 SL exams in IB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on level is finalized i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ctober of IB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you register for ex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1: Language and Litera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8600" y="1447920"/>
          <a:ext cx="8763120" cy="41907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1396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 A: Standard Level or Higher Leve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1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2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3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4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2: Language Acquisi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990720"/>
          <a:ext cx="8458200" cy="1657080"/>
        </p:xfrm>
        <a:graphic>
          <a:graphicData uri="http://schemas.openxmlformats.org/drawingml/2006/table">
            <a:tbl>
              <a:tblPr/>
              <a:tblGrid>
                <a:gridCol w="1690920"/>
                <a:gridCol w="1357200"/>
                <a:gridCol w="1447920"/>
                <a:gridCol w="1676160"/>
                <a:gridCol w="228600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must be S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52280" y="4648320"/>
          <a:ext cx="8534520" cy="19396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A:  Standard Level or Higher Leve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Students will be given the opportunity to write French B H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280" y="27432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127160"/>
          <a:ext cx="8229600" cy="3125880"/>
        </p:xfrm>
        <a:graphic>
          <a:graphicData uri="http://schemas.openxmlformats.org/drawingml/2006/table">
            <a:tbl>
              <a:tblPr/>
              <a:tblGrid>
                <a:gridCol w="1644840"/>
                <a:gridCol w="1646280"/>
                <a:gridCol w="1647720"/>
                <a:gridCol w="1646280"/>
                <a:gridCol w="1644480"/>
              </a:tblGrid>
              <a:tr h="3664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can move the grade 11 and 12 course into grades 10 and 11.  IF the student chooses this option, the exam will be written in grade 11 and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 a SL exa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52280" y="4495680"/>
          <a:ext cx="8534520" cy="1700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N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11"/>
          <p:cNvSpPr/>
          <p:nvPr/>
        </p:nvSpPr>
        <p:spPr>
          <a:xfrm>
            <a:off x="378360" y="632448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Canadian World Studies and Human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447920"/>
          <a:ext cx="8534160" cy="192060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6397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Technology in a Global Society (ITGS):  Standard Level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IJ1O or 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280" y="990720"/>
          <a:ext cx="8458200" cy="16221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og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52280" y="46483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s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2280" y="2743200"/>
          <a:ext cx="8534520" cy="1774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mist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1/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1143000"/>
          <a:ext cx="8534160" cy="19209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rts and Exercise Science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grade 11 Science (preferably Biolo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5: Mathema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90720"/>
          <a:ext cx="8458200" cy="190188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Studie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 or 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 or 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may take MDM4U, MHF4U, MCV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280" y="3048120"/>
          <a:ext cx="8534520" cy="17143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990720"/>
          <a:ext cx="8458200" cy="1749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265400"/>
                <a:gridCol w="2119320"/>
                <a:gridCol w="1690560"/>
              </a:tblGrid>
              <a:tr h="411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E and AMR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E and AMR4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52280" y="293364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your Credit Counseling Summary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8534160" cy="16113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lm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 or TGJ1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26"/>
          <p:cNvSpPr/>
          <p:nvPr/>
        </p:nvSpPr>
        <p:spPr>
          <a:xfrm>
            <a:off x="610560" y="3308400"/>
            <a:ext cx="68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:  students may select a second group 2 or 3 or 4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ubstitute for a Group 6:  Art cou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ulp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al Theat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cal Jaz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adian World Stu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ional Geograph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ligious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hropology, Sociology&amp; Psych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riginal Beliefs, Values &amp; Aspir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adian La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emis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rth and Space Sci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ysical Edu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-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t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utdoor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uter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earb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ig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siness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52280" y="19051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609480" y="914400"/>
          <a:ext cx="792504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ibcb.ca/ibcourseguide20142015.pd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 = 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E= Grade 10 English Academic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J = Grade 10 Science, IB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E = Grade 11 Biology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CR 3UE = Grade 11 Math Studies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Jill Badgery</cp:lastModifiedBy>
  <dcterms:modified xsi:type="dcterms:W3CDTF">2016-02-09T14:15:39Z</dcterms:modified>
  <cp:revision>83</cp:revision>
  <dc:subject/>
  <dc:title>Option sheets 2014-2015</dc:title>
</cp:coreProperties>
</file>